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C28-0F6D-471D-9818-C89B5C4F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274-3C8B-47F1-96D6-EF16A72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E4A-4EAB-4969-AEE5-5FE5045E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A38-7FF0-47B0-AC31-F58AF3F0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895-03A0-4469-A6E5-221C3206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DA17-3734-43D2-9975-2161F71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A43-FB68-400A-9EAD-B554A4F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EEFB-A415-4EB5-B5BC-9CD7DC4D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2A1-9946-46B7-9C83-04CB588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8A6A-CA50-4849-A0A2-585F2D08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1AA-30A1-45E0-A1ED-55D9731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434-A6AC-4E10-B449-D68DEEB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0A7-3582-4562-AA46-79F5357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0767-3525-481E-81C0-19EEDDE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98E-D985-4EA8-9152-8118D957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8A2-48CB-4CB3-8A3E-986761C6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433-1EA2-4723-976E-D06862F7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782-E2EA-4415-80FF-1F40AA2A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7C2-B33C-42FC-A66E-3D2B2594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BED-33E9-4A8C-95EB-C41A97F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967-F3AA-4760-95A5-299128F8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2B8-DD8B-4740-B5D3-2779134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2C6-88E5-49F1-8525-D8C9A68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E91-B066-4BDD-AB71-08DA650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9112-E41F-4898-A3A5-F9CD0FE0479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118-854B-40D3-9A45-9D5B3E83E76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at are we looking for in prose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int of 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x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nd thou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etaphorical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Regis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mode? - Written/Spok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manner? - The relationship between writer and reader: formal or informal? Personal or impersonal? Authorial intention (to characterise, describe a place or time, create an atmosphere or convey a messag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hat is the field? - The lexis will suggest something about the nature of the subject matt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Point of 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it a first person narrative, giving a direct insight into a character’s mind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it a third person narrative, providing an omniscient view of events and characters? Is it informing or evaluating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narrator reliable or unreliable? - Can readers rely on the version of events provided by the narrator?or should they mistrust the narrato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examples of interior monologue or stream of consciousness? - are the characters’ thoughts ordered or random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Lex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words simple or complicated? Formal or colloquial? Modern or archaic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examples of subject specific words or specific lexical set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 nouns concrete or abstrac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naming of characters important? Are any names omitted on purpos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 any words have significant connotation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at function do the modifiers have? What effects do they creat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Speech and though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direct speech or thought to let the characters speak for themselve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indirect speech or thought to interpret or comment on the things that characters say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grammar standard or non-standard? Formal or informal? Modern or archaic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occasions when the tense changes from the simple past? What effect does this hav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the sentence structure varied? - Simple? Complex? What effect do the changes have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Metaphorical langu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writer use images to give the fictional world a concrete visual quality? To which senses does the description appeal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e there any metaphors or symbols? What effect do these hav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2:07:43Z</dcterms:created>
  <dc:creator>www.englishteaching.co.uk (CC)</dc:creator>
  <dc:description/>
  <dc:language>en-US</dc:language>
  <cp:lastModifiedBy>Amanda</cp:lastModifiedBy>
  <dcterms:modified xsi:type="dcterms:W3CDTF">2010-01-02T17:12:43Z</dcterms:modified>
  <cp:revision>4</cp:revision>
  <dc:subject/>
  <dc:title>A Level Prose: An Introduction to Analysis</dc:title>
</cp:coreProperties>
</file>